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471C-3F1E-4DCC-B96E-5BCCE4A8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6CD8-1AC6-43EE-BEA5-6F83E78D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B263-BAB8-4DA1-9F7D-2564D7B0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760F-A13E-49C2-BB22-D46BC94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6078-5E9B-4F55-B571-EE7785F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A09D-8DBF-407B-A838-2DDF49E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71E-50A6-44F7-95FB-24AE37F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CF3D-C0FD-4FFE-9990-AD8B8140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38C-1379-4382-8F4B-1C5EDA4E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38C-73B3-46DC-9F65-FD699B2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2FB7-20F1-49AB-B7D5-3A85C7C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3952-BA83-4520-A289-D1DA178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3B9-28B2-4CC0-BB91-8345CD3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37D7-0F81-4B19-BB47-F1AB7AD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7D9E-EDF4-42CA-BA3D-23FEDEC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284-FBDE-4604-867F-CF1F6445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D67F-DEEA-4978-9051-201B9F9C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0A1A-AFB3-4573-A58D-85D9B717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F5A8-2712-41E6-BA3D-3069DAC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8C2A-5AD5-4188-9011-A01C9DA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7CB9-761E-45D0-B0B7-F6C7BF5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C068-6A13-4232-BF78-1E26A17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6984-F7CF-491C-877D-F9C49AF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BCBC-41FC-4327-8AE4-7CA16A3B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1AC-9E22-4BB7-81FF-2230B09462B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7B6F-BD85-456E-8025-0A95C1F67C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324000" y="83772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62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отив изкушения, о, брате, да бдиш и кат' победител в боя се явиш! Храбро всички страсти с Духа умъртв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едай все към Бога и напред вър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моли се на Бога все да те придружав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а те утеш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ен е и гот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т лоши другари всякога страни, Божието име с почит гово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ъдър, усърден и верен бъд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ледай все към Бога и напред вър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моли се на Бога все да те придружав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а те утеш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ен е и гот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1522800"/>
            <a:ext cx="92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Който побеждава, ще вземе в конец чрез вяра във Бога небесен венец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сам е Вождът, път ще ни я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към Бога гледай и напред вър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моли се на Бога все да те придружав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да те утеш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ен е и гот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2-12T08:14:10Z</dcterms:modified>
  <cp:revision>70</cp:revision>
  <dc:subject/>
  <dc:title>Slide 1</dc:title>
</cp:coreProperties>
</file>